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0.png" ContentType="image/png"/>
  <Override PartName="/ppt/media/image5.jpeg" ContentType="image/jpeg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902E-A8C4-40E7-ACF4-E7420B07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778-3301-4DEF-8943-B081523D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04B5-418E-439E-B48A-1FF4124F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3DC-23DA-4CAB-9860-3574B632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87D8-960C-4D97-AC3B-AD413E14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DEE0-148B-4DDA-9979-0D6DD667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E155-8136-4703-9075-235FD7AB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469-F619-4472-8454-1E2A151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C48-1F8A-4B9A-B838-84A909EF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BE2D-A940-4AEE-B0D4-923AFABF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250-9A4B-4777-94A3-A0501998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C000-D30E-47E5-B437-BD5CE885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7EC8-37E2-4976-AB46-45785D8B1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4280"/>
            <a:ext cx="8029440" cy="23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неурочное занятие по математике для 5-6 классов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Симметрия вокруг на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4214880"/>
            <a:ext cx="678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: Малеева Нина Геннадьевна, учитель математики МБОУ «Новоселов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русском язы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17398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564000" y="4221000"/>
            <a:ext cx="1871640" cy="165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Муха, имитирующая шмеля"/>
          <p:cNvPicPr/>
          <p:nvPr/>
        </p:nvPicPr>
        <p:blipFill>
          <a:blip r:embed="rId1"/>
          <a:stretch/>
        </p:blipFill>
        <p:spPr>
          <a:xfrm>
            <a:off x="1258920" y="3213000"/>
            <a:ext cx="1871640" cy="15843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биологи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Аполлон"/>
          <p:cNvPicPr/>
          <p:nvPr/>
        </p:nvPicPr>
        <p:blipFill>
          <a:blip r:embed="rId2"/>
          <a:stretch/>
        </p:blipFill>
        <p:spPr>
          <a:xfrm>
            <a:off x="3348000" y="1628640"/>
            <a:ext cx="2016000" cy="165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25"/>
          <p:cNvPicPr/>
          <p:nvPr/>
        </p:nvPicPr>
        <p:blipFill>
          <a:blip r:embed="rId3"/>
          <a:stretch/>
        </p:blipFill>
        <p:spPr>
          <a:xfrm>
            <a:off x="2843280" y="4365720"/>
            <a:ext cx="2233440" cy="180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11"/>
          <p:cNvPicPr/>
          <p:nvPr/>
        </p:nvPicPr>
        <p:blipFill>
          <a:blip r:embed="rId4"/>
          <a:stretch/>
        </p:blipFill>
        <p:spPr>
          <a:xfrm>
            <a:off x="250920" y="4724280"/>
            <a:ext cx="2303280" cy="1792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pic1"/>
          <p:cNvPicPr/>
          <p:nvPr/>
        </p:nvPicPr>
        <p:blipFill>
          <a:blip r:embed="rId5"/>
          <a:stretch/>
        </p:blipFill>
        <p:spPr>
          <a:xfrm>
            <a:off x="5076720" y="3284640"/>
            <a:ext cx="3888000" cy="3325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рхитектур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42920" y="1484280"/>
            <a:ext cx="70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здавна человек использовал симметрию в архитектуре. Древним храмам, башням средневековых замков, современным зданиям она придает гармоничность, закончен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замок"/>
          <p:cNvPicPr/>
          <p:nvPr/>
        </p:nvPicPr>
        <p:blipFill>
          <a:blip r:embed="rId1"/>
          <a:srcRect l="0" t="0" r="0" b="7243"/>
          <a:stretch/>
        </p:blipFill>
        <p:spPr>
          <a:xfrm>
            <a:off x="2843280" y="2708280"/>
            <a:ext cx="3219480" cy="3457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5"/>
          <p:cNvSpPr/>
          <p:nvPr/>
        </p:nvSpPr>
        <p:spPr>
          <a:xfrm>
            <a:off x="6227640" y="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179280" y="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6"/>
          <p:cNvGrpSpPr/>
          <p:nvPr/>
        </p:nvGrpSpPr>
        <p:grpSpPr>
          <a:xfrm>
            <a:off x="250920" y="476280"/>
            <a:ext cx="8640720" cy="6345360"/>
            <a:chOff x="250920" y="476280"/>
            <a:chExt cx="8640720" cy="6345360"/>
          </a:xfrm>
        </p:grpSpPr>
        <p:sp>
          <p:nvSpPr>
            <p:cNvPr id="98" name="Oval 4"/>
            <p:cNvSpPr/>
            <p:nvPr/>
          </p:nvSpPr>
          <p:spPr>
            <a:xfrm>
              <a:off x="2627280" y="2565360"/>
              <a:ext cx="3673440" cy="15112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3333ff"/>
                  </a:solidFill>
                  <a:latin typeface="Arial"/>
                </a:rPr>
                <a:t>СИММЕТРИЯ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5" descr=""/>
            <p:cNvPicPr/>
            <p:nvPr/>
          </p:nvPicPr>
          <p:blipFill>
            <a:blip r:embed="rId1"/>
            <a:srcRect l="0" t="13962" r="0" b="0"/>
            <a:stretch/>
          </p:blipFill>
          <p:spPr>
            <a:xfrm>
              <a:off x="6301080" y="549000"/>
              <a:ext cx="2517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6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2087280" cy="208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7" descr="Аполлон"/>
            <p:cNvPicPr/>
            <p:nvPr/>
          </p:nvPicPr>
          <p:blipFill>
            <a:blip r:embed="rId3"/>
            <a:stretch/>
          </p:blipFill>
          <p:spPr>
            <a:xfrm>
              <a:off x="5867640" y="4076640"/>
              <a:ext cx="3024000" cy="237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8" descr="замок"/>
            <p:cNvPicPr/>
            <p:nvPr/>
          </p:nvPicPr>
          <p:blipFill>
            <a:blip r:embed="rId4"/>
            <a:srcRect l="0" t="0" r="0" b="7243"/>
            <a:stretch/>
          </p:blipFill>
          <p:spPr>
            <a:xfrm>
              <a:off x="611280" y="3789360"/>
              <a:ext cx="216036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Line 11"/>
            <p:cNvSpPr/>
            <p:nvPr/>
          </p:nvSpPr>
          <p:spPr>
            <a:xfrm flipV="1">
              <a:off x="4932360" y="1628280"/>
              <a:ext cx="1295280" cy="93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H="1" flipV="1">
              <a:off x="2556000" y="1557360"/>
              <a:ext cx="1224000" cy="10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H="1">
              <a:off x="2771640" y="4005360"/>
              <a:ext cx="79200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4076640"/>
              <a:ext cx="934920" cy="129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7"/>
            <p:cNvSpPr/>
            <p:nvPr/>
          </p:nvSpPr>
          <p:spPr>
            <a:xfrm>
              <a:off x="250920" y="6453360"/>
              <a:ext cx="28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АРХИТЕК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18"/>
          <p:cNvSpPr/>
          <p:nvPr/>
        </p:nvSpPr>
        <p:spPr>
          <a:xfrm>
            <a:off x="5867280" y="6524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Я знал, что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Для меня новым было то, что …</a:t>
            </a:r>
            <a:r>
              <a:rPr b="0" lang="ru-RU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1125360"/>
            <a:ext cx="8280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 природе – это источник энерги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 архитектуре – элемент для создания орнамент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 русском языке – одна из бук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ff"/>
                </a:solidFill>
                <a:latin typeface="Arial"/>
              </a:rPr>
              <a:t>в математике - фигура, имеющая несколько осей симмет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714760" y="21420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АД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285840" y="564372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щё в Древней Греции её считали венцом соверше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 вы думаете, что э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971640" y="765000"/>
            <a:ext cx="3816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РУГ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000760" y="1857240"/>
            <a:ext cx="2921040" cy="3108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1"/>
          <a:stretch/>
        </p:blipFill>
        <p:spPr>
          <a:xfrm>
            <a:off x="1714680" y="271476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8"/>
          <p:cNvSpPr/>
          <p:nvPr/>
        </p:nvSpPr>
        <p:spPr>
          <a:xfrm>
            <a:off x="0" y="59342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одводя итог нашего занятия, хочу отметить вашу прекрасную и плодотворную работу. А так как любая работа требует вознаграждения, хочу подарить ва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ольшие подарки в виде круга - смайл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2"/>
          <p:cNvSpPr txBox="1"/>
          <p:nvPr/>
        </p:nvSpPr>
        <p:spPr>
          <a:xfrm>
            <a:off x="1042920" y="1557360"/>
            <a:ext cx="7129440" cy="37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иммет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окру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на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2639880" y="5987880"/>
            <a:ext cx="40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чебно-методическое обеспеч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недельная учебно-методическая газета «Математика» издательского дома «Первое сентября», № 2, 2004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57120" y="1000080"/>
            <a:ext cx="842976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Monotype Corsiva"/>
              </a:rPr>
              <a:t>Я в листочке, я в кристалл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Monotype Corsiva"/>
              </a:rPr>
              <a:t>Я в живописи, архитектур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Monotype Corsiva"/>
              </a:rPr>
              <a:t>Я в геометрии, я в челове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Monotype Corsiva"/>
              </a:rPr>
              <a:t>Одним я нравлюсь, другие находят меня скучн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ff"/>
                </a:solidFill>
                <a:latin typeface="Monotype Corsiva"/>
              </a:rPr>
              <a:t>Но все признают, что я – элемент красо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500120" y="60008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думаете, о чем иде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714760" y="214200"/>
            <a:ext cx="37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ГАД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5"/>
          <p:cNvSpPr txBox="1"/>
          <p:nvPr/>
        </p:nvSpPr>
        <p:spPr>
          <a:xfrm>
            <a:off x="1071720" y="2214720"/>
            <a:ext cx="7129440" cy="37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имметр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окру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на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786040" y="21420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М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9640" y="620640"/>
            <a:ext cx="820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древности слово </a:t>
            </a:r>
            <a:r>
              <a:rPr b="1" lang="ru-RU" sz="2400" spc="-1" strike="noStrike">
                <a:solidFill>
                  <a:srgbClr val="3333ff"/>
                </a:solidFill>
                <a:latin typeface="Verdana"/>
              </a:rPr>
              <a:t>«симметрия»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употреблялось как «гармония», «красот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рмин «гармония» в переводе с греческого означает «соразмерность, одинаковость в расположении част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j0298897"/>
          <p:cNvPicPr/>
          <p:nvPr/>
        </p:nvPicPr>
        <p:blipFill>
          <a:blip r:embed="rId1"/>
          <a:stretch/>
        </p:blipFill>
        <p:spPr>
          <a:xfrm>
            <a:off x="3419640" y="335772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j0299587"/>
          <p:cNvPicPr/>
          <p:nvPr/>
        </p:nvPicPr>
        <p:blipFill>
          <a:blip r:embed="rId2"/>
          <a:stretch/>
        </p:blipFill>
        <p:spPr>
          <a:xfrm>
            <a:off x="6300720" y="2852640"/>
            <a:ext cx="1827360" cy="1824120"/>
          </a:xfrm>
          <a:prstGeom prst="rect">
            <a:avLst/>
          </a:prstGeom>
          <a:ln w="0">
            <a:noFill/>
          </a:ln>
        </p:spPr>
      </p:pic>
      <p:sp>
        <p:nvSpPr>
          <p:cNvPr id="51" name="Tree"/>
          <p:cNvSpPr/>
          <p:nvPr/>
        </p:nvSpPr>
        <p:spPr>
          <a:xfrm>
            <a:off x="826920" y="2924280"/>
            <a:ext cx="181008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BD21322_"/>
          <p:cNvPicPr/>
          <p:nvPr/>
        </p:nvPicPr>
        <p:blipFill>
          <a:blip r:embed="rId3"/>
          <a:stretch/>
        </p:blipFill>
        <p:spPr>
          <a:xfrm>
            <a:off x="755640" y="5373720"/>
            <a:ext cx="7991640" cy="401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95280" y="476280"/>
            <a:ext cx="6048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вестный немецкий математик нашего столетия Герман Вейль дал определение симметрии таким образом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336760" cy="316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84360" y="3573360"/>
            <a:ext cx="79912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Симметрия является той идеей, с помощью которой человек веками пытается объяснить и создать порядок, красоту и совершенство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мотрите внимательно на рисунки? Что вы на них увиде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128" t="-264" r="805" b="17906"/>
          <a:stretch/>
        </p:blipFill>
        <p:spPr>
          <a:xfrm>
            <a:off x="1042920" y="2060640"/>
            <a:ext cx="5041800" cy="185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rcRect l="0" t="0" r="0" b="20127"/>
          <a:stretch/>
        </p:blipFill>
        <p:spPr>
          <a:xfrm>
            <a:off x="3635280" y="4071960"/>
            <a:ext cx="5145120" cy="1433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6"/>
          <p:cNvSpPr/>
          <p:nvPr/>
        </p:nvSpPr>
        <p:spPr>
          <a:xfrm>
            <a:off x="0" y="571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е фигуры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метричны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прямую, разъединяющую эти фигуры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ью симмет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Если согнуть лист по этой прямой, то эти фигуры полностью совпадут, и мы будем видеть одну фигу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учитель демонстрирует данное утверждени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Группа 12"/>
          <p:cNvGrpSpPr/>
          <p:nvPr/>
        </p:nvGrpSpPr>
        <p:grpSpPr>
          <a:xfrm>
            <a:off x="372960" y="1549440"/>
            <a:ext cx="8447040" cy="4665600"/>
            <a:chOff x="372960" y="1549440"/>
            <a:chExt cx="8447040" cy="4665600"/>
          </a:xfrm>
        </p:grpSpPr>
        <p:sp>
          <p:nvSpPr>
            <p:cNvPr id="61" name="AutoShape 2"/>
            <p:cNvSpPr/>
            <p:nvPr/>
          </p:nvSpPr>
          <p:spPr>
            <a:xfrm rot="21445800">
              <a:off x="468000" y="1685520"/>
              <a:ext cx="6184800" cy="4392720"/>
            </a:xfrm>
            <a:prstGeom prst="roundRect">
              <a:avLst>
                <a:gd name="adj" fmla="val 27282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3" descr="j0298653"/>
            <p:cNvPicPr/>
            <p:nvPr/>
          </p:nvPicPr>
          <p:blipFill>
            <a:blip r:embed="rId1"/>
            <a:stretch/>
          </p:blipFill>
          <p:spPr>
            <a:xfrm>
              <a:off x="971280" y="2708280"/>
              <a:ext cx="3436920" cy="20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j0298653"/>
            <p:cNvPicPr/>
            <p:nvPr/>
          </p:nvPicPr>
          <p:blipFill>
            <a:blip r:embed="rId2"/>
            <a:stretch/>
          </p:blipFill>
          <p:spPr>
            <a:xfrm flipH="1">
              <a:off x="4642920" y="2708280"/>
              <a:ext cx="343692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Line 5"/>
            <p:cNvSpPr/>
            <p:nvPr/>
          </p:nvSpPr>
          <p:spPr>
            <a:xfrm>
              <a:off x="4500360" y="2189160"/>
              <a:ext cx="0" cy="33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6"/>
            <p:cNvSpPr/>
            <p:nvPr/>
          </p:nvSpPr>
          <p:spPr>
            <a:xfrm flipV="1">
              <a:off x="4498920" y="1925280"/>
              <a:ext cx="72072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"/>
            <p:cNvSpPr/>
            <p:nvPr/>
          </p:nvSpPr>
          <p:spPr>
            <a:xfrm>
              <a:off x="5219640" y="1928520"/>
              <a:ext cx="338436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5364000" y="1562040"/>
              <a:ext cx="34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b0b09"/>
                  </a:solidFill>
                  <a:latin typeface="Verdana"/>
                </a:rPr>
                <a:t>           </a:t>
              </a:r>
              <a:r>
                <a:rPr b="0" lang="ru-RU" sz="1800" spc="-1" strike="noStrike">
                  <a:solidFill>
                    <a:srgbClr val="0b0b09"/>
                  </a:solidFill>
                  <a:latin typeface="Verdana"/>
                </a:rPr>
                <a:t>ОСЬ СИММЕТ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Прямоугольник 1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висимости от того, как расположена прямая, различают два вида симметри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тикальная и горизонт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щее название которы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ев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оме этого различ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еркальную и центральную симметр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714240" y="50004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симметрии играет важную роль в разных областях науки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е, архитектуре, живописи, прир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 сегодня на занятии мы попробуем это с вами доказат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давайте распределим обязанности путем выбора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ждая групп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работать тольк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одном направлении в течение 10 мину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 окончанию каждая группа представля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большой отчет о проделанной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в процессе работы групп учитель дает небольшие консульт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Группа 15"/>
          <p:cNvGrpSpPr/>
          <p:nvPr/>
        </p:nvGrpSpPr>
        <p:grpSpPr>
          <a:xfrm>
            <a:off x="214200" y="1714680"/>
            <a:ext cx="8715600" cy="3000240"/>
            <a:chOff x="214200" y="1714680"/>
            <a:chExt cx="8715600" cy="3000240"/>
          </a:xfrm>
        </p:grpSpPr>
        <p:cxnSp>
          <p:nvCxnSpPr>
            <p:cNvPr id="72" name="Прямая со стрелкой 4"/>
            <p:cNvCxnSpPr/>
            <p:nvPr/>
          </p:nvCxnSpPr>
          <p:spPr>
            <a:xfrm flipH="1">
              <a:off x="1141920" y="1714680"/>
              <a:ext cx="1857960" cy="1929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" name="Прямая со стрелкой 6"/>
            <p:cNvCxnSpPr/>
            <p:nvPr/>
          </p:nvCxnSpPr>
          <p:spPr>
            <a:xfrm flipH="1">
              <a:off x="3642840" y="1857240"/>
              <a:ext cx="72000" cy="228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4" name="Прямая со стрелкой 8"/>
            <p:cNvCxnSpPr/>
            <p:nvPr/>
          </p:nvCxnSpPr>
          <p:spPr>
            <a:xfrm>
              <a:off x="5142600" y="1785960"/>
              <a:ext cx="1429560" cy="22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5" name="Прямая со стрелкой 10"/>
            <p:cNvCxnSpPr/>
            <p:nvPr/>
          </p:nvCxnSpPr>
          <p:spPr>
            <a:xfrm>
              <a:off x="6357600" y="1714680"/>
              <a:ext cx="1786680" cy="107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6" name="Прямоугольник 11"/>
            <p:cNvSpPr/>
            <p:nvPr/>
          </p:nvSpPr>
          <p:spPr>
            <a:xfrm>
              <a:off x="214200" y="3714840"/>
              <a:ext cx="1857240" cy="428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ТЕМАТ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оугольник 12"/>
            <p:cNvSpPr/>
            <p:nvPr/>
          </p:nvSpPr>
          <p:spPr>
            <a:xfrm>
              <a:off x="2714400" y="4286520"/>
              <a:ext cx="1557360" cy="428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ИОЛОГ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оугольник 13"/>
            <p:cNvSpPr/>
            <p:nvPr/>
          </p:nvSpPr>
          <p:spPr>
            <a:xfrm>
              <a:off x="5429160" y="4071960"/>
              <a:ext cx="2143080" cy="500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УССКИЙ ЯЗЫ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оугольник 14"/>
            <p:cNvSpPr/>
            <p:nvPr/>
          </p:nvSpPr>
          <p:spPr>
            <a:xfrm>
              <a:off x="7000920" y="2857680"/>
              <a:ext cx="1928880" cy="428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РХИТЕКТУ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математи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0" t="13962" r="0" b="0"/>
          <a:stretch/>
        </p:blipFill>
        <p:spPr>
          <a:xfrm>
            <a:off x="1476360" y="1773360"/>
            <a:ext cx="6337440" cy="424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21:43Z</dcterms:created>
  <dc:creator>User</dc:creator>
  <dc:description/>
  <dc:language>en-US</dc:language>
  <cp:lastModifiedBy>PrintMaster</cp:lastModifiedBy>
  <dcterms:modified xsi:type="dcterms:W3CDTF">2023-12-17T12:43:24Z</dcterms:modified>
  <cp:revision>11</cp:revision>
  <dc:subject/>
  <dc:title>Слайд 1</dc:title>
</cp:coreProperties>
</file>